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4420-7099-406E-85E8-FC10250F6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4730-00C8-478F-A603-BB3D860F1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5843-4D38-49E2-BD75-DF0A9258A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need professional learning on ck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2B83-C3D2-4274-846E-1B39CE5C3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3225-B667-4820-9155-B646DDD44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18D6-FC6C-45E6-AEC0-C1C460AF8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345D-3CDA-418D-8F1E-3F19DC9DD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DE36-5F10-4882-9E0C-CF26B329A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FD3A-05AA-467F-8248-5A55292A5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D622-43DF-4B2C-8AC8-BCD99B06B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004D-4356-4A15-9CAC-140D77D00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9B91-BA90-4368-A843-1EB63643F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 prior t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BBAF-799F-4DA2-B1FA-6EE16C4E8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BB62-3C60-4FAC-AEC4-0E3286D8A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FFD4-8CD0-46E4-BB57-76033D79A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DB1F-73B3-497B-B0E4-DFD54265F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AEC7-FBDF-4880-ADD3-8710BF50C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8E10-9A51-4C51-BE05-6533BAF4D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1B87-2B30-4B2E-9E36-A831F6A92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94C0-36C5-486A-92AB-143B4C80C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C069-3548-4B14-BECE-9966C9DFA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 standing during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B441-D361-4481-BC01-47A0503EF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3079-D97B-4E89-B428-B3305C91C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back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6139-1902-4302-8AA8-030E9C87F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back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16A0-178A-4B94-A567-30FF7F6D5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ED41-174F-4B23-8B77-F9FCC7F5F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A58A-8E78-4D5F-8CB0-EE1395510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9CD4-5BB9-44A4-9413-E7FF2B8E2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 CKT-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664C-734D-4233-816C-70A5F250E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n example, e.g. your goal might be that students can use order of operations, but why is that your go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D9BD-36DA-4B4D-BDC8-83A5797A9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3BB-EED3-4CFF-8C26-FFBA29FC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5584-416E-4CB9-A7C1-B1A8C3C2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36F9-998A-4C85-947A-433C6219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CB3-4BDE-4190-A64B-8EB313D5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310A-C9A6-443E-89A3-F1AB4AB1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2B35-9DF7-49E1-A05F-02E92508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E6A5-9588-4875-91CC-42992604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3586-113B-4FB6-B6A9-B413D5EB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3ED6-468C-4439-85DD-83CB2653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27C1-C6FB-4C02-97F9-A887D102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7AAA-040B-4F23-BB00-5F931929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103-9575-4242-BF82-F1C35AE5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4F0E-5DEF-4450-89A2-4063AE21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C8A7-A43D-43CD-86CA-CDBB55D9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1CFF-8B57-4E7E-A072-EFAD11C5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5A64-8D4E-4251-8B8C-3E3D7569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91BD-C86E-42DF-868A-66E261BA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96D8-4EFA-4A53-9480-8A2447B4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0FA-A9ED-4121-B52F-E5C57DF3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949-C431-4A8E-B92D-9727D743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C582-5F7F-4494-B1FC-2350CDFF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09A-748E-44E5-8DDC-C662177F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F044-C681-4016-8BA8-F2D4CF74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FF7-7261-4FA9-8E81-CFF0523F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6926-A0E2-498C-80BD-680A14FB2D7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A1A9-17F6-4CAD-8492-733E0F56523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90720" y="2133720"/>
            <a:ext cx="74167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ead of reciting a curriculum expectation as a goal: solve problems involving percents expressed to .. whole-number percents greater than 100%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36C0-E102-4BA2-AF79-0D68CC082F4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90720" y="2209680"/>
            <a:ext cx="741672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one number is less than 100% of another, the second number is more than 100% of the first. 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A7F1-DA3B-46D4-B600-715D3DFD71D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22860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a percent is greater than 100%, its decimal equivalent is greater than 1. 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BDE2-AB9E-49C2-BE24-D709DFF6429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17440" y="1905120"/>
            <a:ext cx="7417080" cy="68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ame strategies are used to solve problems involving percents greater than 100% as problems involving percents less than 100%. O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3C5F-CD30-44B3-80F1-E7169E6FA49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you want to do thi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decide on the goal, you are more likely to know what questions to ask, what activity to use,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ADB1-985F-4A97-8116-8CA1EB07319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ke it y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289548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 if you get a lesson from a valued resource, you have to make your OWN decision about what to pull out of that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D3AA-682E-4985-937D-F141E8175A0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look at this lesson from Grade 7 TI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BCD5-1873-4521-B0C4-8572027FAEA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BC42-1F29-4C5C-856F-CD954E178BD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Picture 1.png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3BFA-6027-438A-97E7-71D0F3F4B95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Picture 2.png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29181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2057400" y="3733920"/>
            <a:ext cx="5943600" cy="304560"/>
          </a:xfrm>
          <a:prstGeom prst="rect">
            <a:avLst/>
          </a:prstGeom>
          <a:solidFill>
            <a:srgbClr val="ffff00">
              <a:alpha val="19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B038-4280-4A57-953F-0EDA907A93D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Picture 3.png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44388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4419720" y="1905120"/>
            <a:ext cx="434340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4648320" y="2666880"/>
            <a:ext cx="3429000" cy="30492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324480" y="2895480"/>
            <a:ext cx="28195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2209680" y="3124080"/>
            <a:ext cx="35053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tting Less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6F57-9BBD-44EB-9035-55E6EB188E6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Picture 4.png"/>
          <p:cNvPicPr/>
          <p:nvPr/>
        </p:nvPicPr>
        <p:blipFill>
          <a:blip r:embed="rId1"/>
          <a:stretch/>
        </p:blipFill>
        <p:spPr>
          <a:xfrm>
            <a:off x="0" y="1415880"/>
            <a:ext cx="9144000" cy="40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C0D5-53B0-4EA7-81AD-D46656A2417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Picture 5.png"/>
          <p:cNvPicPr/>
          <p:nvPr/>
        </p:nvPicPr>
        <p:blipFill>
          <a:blip r:embed="rId1"/>
          <a:stretch/>
        </p:blipFill>
        <p:spPr>
          <a:xfrm>
            <a:off x="0" y="1255680"/>
            <a:ext cx="9144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FAB8-2A7F-4C96-AF7D-56B931C136A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Picture 6.png"/>
          <p:cNvPicPr/>
          <p:nvPr/>
        </p:nvPicPr>
        <p:blipFill>
          <a:blip r:embed="rId1"/>
          <a:stretch/>
        </p:blipFill>
        <p:spPr>
          <a:xfrm>
            <a:off x="0" y="1906560"/>
            <a:ext cx="9144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190512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goal is about recognizing when it’s useful to use a generalization when describing a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E598-2EA1-41E2-9D1C-48BD969E572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the closing ask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1905120"/>
            <a:ext cx="7417080" cy="68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thi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ay someone figures out terms 3, 4, 5, and 6 might be very different from the way that person figures out term 100 becaus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C028-48B3-4E64-B5B1-043582A9E47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Here are sever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following stated goals were taken from a series of lessons on linear relations in a grade 9 tex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483B-564A-4EF3-B720-B30FBEC52E2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1066680" y="990720"/>
            <a:ext cx="7417080" cy="71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 a relation using a table of values, a graph or a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direct and partial vari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properties of linear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5005-42B9-4940-A15D-4C721F22A96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1066680" y="99072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 a linear relation in a differen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cognize whether a relation is linear or non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7F62-F142-4E20-B948-CAB38AA4D26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’m hoping that you will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251460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ke these goals and talk about how to focus them to relate more explicitly to one or more of the big ideas. To do th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4110-27DE-4EEC-A48C-5C9D2CA8295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ork with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143000" y="228600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 least 2 new colleagues to try to reshape/refocus at least two of the goals. Be ready to sha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EEAC-6095-488F-B40B-0B8D9141DB9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word/las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t in a group with 3 others. One of you begins and asks the next pers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E858-9F42-4D71-A568-1D698441AF7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1828800"/>
            <a:ext cx="7417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with the same colleagues to write consolidating questions for two of those goals that would bring them into the spotlight for stud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339C-317E-4468-8527-51F524F168A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66680" y="182880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 them in the appropriate sp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9960-303F-4566-8286-1B241ADFB79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236232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do a gallery walk looking at the questions that were crea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3FB6-CEE8-4B72-980D-A1C8A6D3EE9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Cloud Callout 9"/>
          <p:cNvSpPr/>
          <p:nvPr/>
        </p:nvSpPr>
        <p:spPr>
          <a:xfrm>
            <a:off x="5257800" y="1523880"/>
            <a:ext cx="3276720" cy="190512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loud Callout 8"/>
          <p:cNvSpPr/>
          <p:nvPr/>
        </p:nvSpPr>
        <p:spPr>
          <a:xfrm>
            <a:off x="838080" y="1752480"/>
            <a:ext cx="3276720" cy="190512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ink about the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FCAB-B55C-4DF3-8F82-2BD57A6AADC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990720" y="228600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5562720" y="20574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4038480" y="3733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esso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5486400" y="4648320"/>
            <a:ext cx="32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nsolidating (and other)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11"/>
          <p:cNvCxnSpPr/>
          <p:nvPr/>
        </p:nvCxnSpPr>
        <p:spPr>
          <a:xfrm flipV="1">
            <a:off x="3962160" y="2666160"/>
            <a:ext cx="1448280" cy="22932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89" name="Straight Arrow Connector 15"/>
          <p:cNvCxnSpPr/>
          <p:nvPr/>
        </p:nvCxnSpPr>
        <p:spPr>
          <a:xfrm>
            <a:off x="4952880" y="4266720"/>
            <a:ext cx="457920" cy="785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90" name="Straight Arrow Connector 17"/>
          <p:cNvCxnSpPr/>
          <p:nvPr/>
        </p:nvCxnSpPr>
        <p:spPr>
          <a:xfrm flipH="1">
            <a:off x="5257080" y="3123720"/>
            <a:ext cx="686520" cy="7628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91" name="Straight Arrow Connector 16"/>
          <p:cNvCxnSpPr/>
          <p:nvPr/>
        </p:nvCxnSpPr>
        <p:spPr>
          <a:xfrm>
            <a:off x="4037400" y="2895480"/>
            <a:ext cx="762840" cy="9914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066680" y="23623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lk over to someone you’ve not talked to befo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FAEB-B173-42A0-BFBA-03C135064F5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066680" y="236232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one idea that came up that reinforces what you already do re lesson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6AF5-55A3-4509-9094-36B1A18DD04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066680" y="236232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fer one idea that came up that might change how you create lesson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AD77-F4EA-4B29-A416-3ADBA6F4364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word/las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re important things to think about when creating a lesson go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E1B8-B359-4CE3-8390-B60ADC0FA96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word/las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066680" y="289548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person replies, then the next, the next, and then it goes back to the start– that person gets the last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75D7-B765-4DBC-91CD-D1919767589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as the most interesting idea you heard during this minds-on activ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04B6-7FB6-482F-A943-2C2100490E2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so importan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219320" y="2149560"/>
            <a:ext cx="7416720" cy="71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tting a goal clear in your own mind can make a big difference in increasing the likelihood that students will learn what you hope they will lear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096F-1840-4536-A770-B46451736DA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1193760" y="260676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includes knowing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you have that goal. --- What’s the point of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E49E-FE5B-4C71-A157-EB2FD50AF1D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eacher strug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66680" y="289548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experience is that setting lesson goals beyond reciting an expectation or simply using a topic name is a struggle for teac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554B-2875-4F1E-96FF-8C89F86A643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00:14:11Z</dcterms:created>
  <dc:creator>PSteele</dc:creator>
  <dc:description/>
  <dc:language>en-US</dc:language>
  <cp:lastModifiedBy>Marian Small</cp:lastModifiedBy>
  <dcterms:modified xsi:type="dcterms:W3CDTF">2009-08-18T16:56:59Z</dcterms:modified>
  <cp:revision>234</cp:revision>
  <dc:subject/>
  <dc:title>Slide 1</dc:title>
</cp:coreProperties>
</file>